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631-BE9A-47C5-9439-3031245A59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B5C-3217-4A73-AFB7-BFA6D5721E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B28-68D9-4104-92B6-3A1F0520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097-9D8A-4FAB-8151-08C1552A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E82-3E8C-48C9-8C1B-26F46C08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B1A-9B67-4882-B3E5-13CAEFB6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031-049F-422E-9D51-A5BEC9C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406-B3A9-4020-B4DD-D2E2997C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A49-DE9F-4568-8E32-0338DA63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880-B327-4873-BBE9-B2FA4D0B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12E-729C-4BAA-8C69-E283BD9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64B-CCB8-4940-A047-078082DC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5E4-0CEC-4504-A020-FADCED6E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935-470C-493E-8193-CBF49E1C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040-2AE5-404C-A87F-59D2C0B2BD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Quiz about “ecocide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NASA Goddard Space Flight (under a Creative Commons Licence)</a:t>
            </a: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ecoci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by reading this short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The_Earth_needs_a_good_law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5619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 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Watch the first 5 mins of this TED talk to see if these 4 statements are True or Fals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edxtalks.ted.com/video/TEDxExeter-Polly-Higgins-Eco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thought that changed Polly’s life was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50 million people already agree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ly says that ecocide is as bad as geno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5 “crimes against peace” were agreed just after World War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: 1) F  2) T  3) T  4) 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? Now watch the rest of the TED talk. As you watch, think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wellbeing of the people” related to the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e destruction of the environment similar to slav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profit” related to “ecocid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ecocide” related to natural ju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1:20:09Z</dcterms:created>
  <dc:creator>Linda Ruas</dc:creator>
  <dc:description/>
  <dc:language>en-US</dc:language>
  <cp:lastModifiedBy>Linda Ruas</cp:lastModifiedBy>
  <dcterms:modified xsi:type="dcterms:W3CDTF">2014-05-27T11:34:07Z</dcterms:modified>
  <cp:revision>4</cp:revision>
  <dc:subject/>
  <dc:title>Quiz about “ecocide”</dc:title>
</cp:coreProperties>
</file>